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EAB-BA29-4205-853E-9322E37F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33FC-20F1-47A2-B88C-163FB89F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207-1AEC-4AB4-839A-9DBA9B2B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B38-FCB9-4D32-A347-471B720E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248-D646-4879-B360-6B802429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AC2-833D-448B-92B4-F9994BE2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683-B563-4800-807C-57FDA705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CD0-AE70-49F9-9CDD-1EC8F611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47F-4B5D-4FF5-99D8-66C1652E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E38-BD27-4C2D-87C4-123EB791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73C-C1BE-4597-BDA9-44180A8D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49B-1983-49FD-8DBE-D38ACF7E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57ED-BF79-4F0B-8FD9-60AA9DE0BE4A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Главна служба за ревизију јавног сектора 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р БОШКО ЧЕ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лавни реви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ИМЈЕРИ НЕПОШТОВАЊА ЗАК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Најчешће утврђена одступањ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 усвојен годишњи план набав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 успостављена комисија за јавне набав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врши се процјена вриједности набавке прије покретања поступ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 сачињена општа тендерска доку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 критериј за додјелу уговора је одабире се економски најповољнија понуда, а нису дефинисани критерији за израчунавање економски најповољније пон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обавјештењу о набавци, није наведен преферцијални третман домаће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нуђачима је остављен рок за достављање понуда краћи од прописан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нуде се међусобно по вједностима значајно разликују, а уговорни орган није тражио појашњене за такве цијене, комисија врши бодовање понуда у којима нису прецизно дефинисани услови који су неопходни за оцјену пон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бавке се дијеле, како би се избјегле процедуре прописане за вредносне разре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ВАЛА ЗА ПАЖЊ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000000"/>
                </a:solidFill>
                <a:uFillTx/>
                <a:latin typeface="Arial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ПРАВИЛНОСТИ КОЈЕ ЈЕ ГЛАВНА СЛУЖБА ЗА РЕВИЗИЈУ ЈАВНОГ СЕКТОРА УОЧИЛА У ПОГЛЕДУ ПРИМЈЕНЕ И ПРОВОЂЕЊА ПРОЦЕДУРА У ЈАВНИМ НАБАВК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конска регулат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кон о ревизији јавног сектора РС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кон о извршењу буџета Р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кон о набавкама Б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 законски а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Закон о ревизији ЈС 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члану 3. под циљевима навод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дан од основних циљева Главне службе за ревизију је да обезбиједи независна мишљења о примјени закона и других прописа, тиме и Закона о набавкама, Закона о извршењу буџета, итд. О коришћењу ресурса и управљања државном својином у институцијама и јавном секто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Закон о извршењу буџ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коном је дефинисано, да су буџетски корисници дужни да се у поступку набавке робе, материјала и вршења услуга придржавају одредби закона о јавним  набавкама БиХ, као и процедура о обавезној примјени модула набавки прописаног Правилником о процедури вођења помоћних књига (Сл. гл. РС 59/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вођење ревизије наба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складу са Водичем за ревизију јавног сектора  Главна служба  врш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г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визију интерне контр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штинско испитивање набав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ако се проводи  ревизија набав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тролно окруж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ро контролно окружење одликује слиједећ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виши менаџмент развио је јасно изражену изјаву о етичким вриједностима који особље задужено за процес набавки разумиј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и организациона структура која помаже дјелотворну интерну контролу над процесом набав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ација задржава појединце који су компетентни за финансијско извјештавање и питања наб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цјена р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чешћи ризици унутар процеса набав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ручене робе нису потребне организациј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ручене робе нису у складу са политиком организациј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ручене робе не пружају вриједност за нова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обе нису испоручене организацији, набавка није обављена према прописиним правилима, током проц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нтролне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систему контроле који добро функционише требали би бити остварени следећи контролни циљев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 набавке иницирају и ауторизирају одговарајући службениц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вршена одговарајућа подјела дуж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клопљени уговори извршени су у складу са правилима набавке у јавном секто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 трансакције које се тичу набавки робе и услуге у потпуности одговарају угов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7:26:31Z</dcterms:created>
  <dc:creator>bceko</dc:creator>
  <dc:description/>
  <dc:language>en-US</dc:language>
  <cp:lastModifiedBy> </cp:lastModifiedBy>
  <dcterms:modified xsi:type="dcterms:W3CDTF">2011-06-24T05:53:28Z</dcterms:modified>
  <cp:revision>5</cp:revision>
  <dc:subject/>
  <dc:title>Главна служба за ревизију јавног сектора РС</dc:title>
</cp:coreProperties>
</file>